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60A-E061-43CC-B893-487C090A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50E-8994-4744-B6F0-4A0B2C7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D4A04-D39A-49A2-9628-9EDDA813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EFEE3-4DDB-4C9F-966B-6F6C9AF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C4022-5E5F-4D8E-BD8E-13743070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444BE-EBF2-4383-8305-46D164D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AB52-A7A5-47B3-87C2-E91E344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B060E-A84F-4664-97F6-A7C4EA0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562E3-E7E3-40E4-9ED3-9344465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438D5-3793-444D-BA02-EC6FA7AA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32EA-D507-4270-B4AB-C59460C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78713-FDC2-4277-95C3-004B0D5A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737-E77D-4262-8A16-D7FA892F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68234-B18D-4FFA-B26E-7F33615B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49F4C-1898-4522-BE40-A6D944EB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5D5EA-1CCD-4B91-BF73-35228ED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45248-5551-4473-9654-1F5061E8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45E66-8AE1-4CF7-9AC8-A6F53E3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C4EB4-A5DF-482E-8CB4-E48110D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026CB-30F5-436A-B8F2-28462CF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DE66-9F89-4626-A420-A2E032F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E7765-7F65-44DB-A14C-8EC48133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A8F1E-F8B7-4259-9B85-70DEB46E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4E3-4747-4177-A11E-A83CB525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04B10-AA46-4F46-96AB-1D1FCE22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6CE7-A110-4147-B89E-B916BF7E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3356-DCC5-45FC-A2F9-3578645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E395E-17C9-4714-A6D1-749AEBC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B86C2-13E3-48B4-815F-9298427B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D9237-2176-46A8-819B-C55940B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83C8-5DFC-4F05-8F2A-AC11CF9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03453-E68B-48C4-809B-4CFB261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548FE-A3F7-4A36-B710-866FF07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DE77-DE54-4D3E-9146-B7195902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68E2-A3D3-435F-A56F-2D753920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14A7F-F41A-4C59-BC86-C355FC17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3EA3C-7C74-4FDB-BDE5-3A2322B1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77175-F7E0-4A8A-A321-D2C0CCE3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01C5A-E897-4CD6-8119-2521E6B7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43602-C463-4A8F-9BF8-3A861954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33994-6E59-406F-B856-47806A44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F9F5F-6908-4B2F-944F-2E3E471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7656D-6722-4977-8540-EA3A229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0D3FE-2713-4266-8516-C7405C9E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7C335-D91B-4BED-B776-382A0A37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D20F-2FE8-4A71-94EE-2DA0C574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ABB10-C8B6-408A-AF1C-0E79BDC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04EF2-4762-4F76-99B9-E2EE311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B30E7-27E2-470A-9856-1F6D740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41D0-7026-4539-8ED7-03C9FBC5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DC798-E5A9-408C-8687-1CD4E555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B5D0-E6DD-49F2-B061-C46DB0A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B98-BFA0-42AC-95AD-5B2F4069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4BEB-1E2F-4211-97FB-870C262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ACB5-E84F-4F62-A5CC-8C8680F0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81B-A584-4FAA-A3EC-4F5A336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308-20B3-40CB-AD4E-E4A0C811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200-13B5-4322-8415-3446012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423-DF5E-4577-9E2C-53C671C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C928-EB78-4636-A9A3-6EA46335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743-167B-434B-A632-C18CE4B1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D34E-4533-4FC2-8EFA-984EFC1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39B7-E5AC-49C8-8E16-8872618D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75D4-7934-4D27-8297-8C7A77D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9E77-0D0E-4D20-A2A4-C84CE58D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0001-ACBE-40D8-9108-71594F53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03BF-76F8-4147-9A22-C11756DB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EA7-7651-4F66-9A35-AC93EDE4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FE53-AC41-441D-B6F7-2C9F6EB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AC70-BF08-41E2-86B0-96AC567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0388-64F2-4A21-8CFE-8791967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E432-EFC8-46D0-8F96-747C4F3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1729-5C87-4934-9659-71B8525C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ADC4-32BE-45B7-A127-20A33D8B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D2C6-B4A1-4BC6-A0A2-EF078602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F9BF-6970-42FC-9F6B-CC44CEF5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18FA-C5FD-4B90-B839-A9918229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F215-A499-4425-8A8F-EBABF11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2B7-757A-4BB5-8CFB-B2406C6B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AE03-3074-4917-BF35-82DA95C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E17C-1A3C-4222-AB4B-7D0CABF1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5E5A-C5EB-4B2B-AA70-824F5F2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CF00-F8E0-4836-90B9-60517B4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06AB-BE5B-4059-A170-0F6C1F9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3834-00F8-4495-B4DE-0E24C99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63A6-D3E1-4CE9-AF2A-DA91585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A785-933C-4362-8630-E28C6C6D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0345-0252-4CBF-A0CF-BAE82DB2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3E77E-E87B-4DE2-BC0A-187A482D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54A-2E77-4C57-BDA0-62F573C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5839-5580-4A36-A62F-59C229D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616F-FEC5-451C-A8E9-CDD4DC49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12A7-ABF2-42B4-A569-E1B66120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05F4-3895-46E5-AE3F-4A21B25B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639F-4D4E-4ED3-8221-312783E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8FF8E-FC65-4C0A-A882-1E64123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20F9B-1CD2-4BAA-9A46-DF015F0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07C8-A22B-4A76-AB16-BCB8950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CAE0-F83C-424E-9733-E7CB720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7084-3828-4CBA-95C6-E9A37A1F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36B-70E9-44CA-ABC1-E405A7CF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4D42-A7F4-4976-B6B4-5C4D423A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9012-BF80-4721-B182-17CDE08C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4BF8-37F9-42A5-ACDF-FEE73014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1A1D-6A3A-49D2-B8D9-CE570F6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4E53-F58A-40A4-9A81-0B5F687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7B74D-6FFA-44E3-A18F-DE22C225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87F7-3D8D-48B1-B758-F729DA7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BE29-4585-44A6-959F-19F8295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6C052-4343-4062-94C8-53FBD9E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32ECE-42C9-4038-AB7E-25E881C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902-01BD-4464-8EC7-F379B9B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075F-CAE7-4AB2-B1B1-EFBFF47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5776-C82C-4D40-B545-E5F32711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1AEC-C729-4C3C-96D9-05E6BFEA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D733-6B03-4672-A9B1-2AC2DC30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832A-849D-43E4-8E37-575371B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898E9-A5F3-441B-975A-B03049B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3B4A-F307-409B-B142-1463D9F5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CE66-DB13-4435-9BCF-6B8721B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6356-C278-4A93-95D4-B7DD3BE4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2E99-3460-4CD9-98CC-97D64BD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F8C-490E-4678-B71C-28FCC601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B4DC-1E60-4F15-9CFE-D341778C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C546F-B1CB-44A8-BA5B-9507F13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CAD8-0B8C-4880-A68E-CDF192D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F7843-1134-4AA7-9F68-4211BB54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9B12E-919F-43F9-B6C1-A6741D5C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98C4-9D77-4A7E-A4AA-E4286810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72FC-8B9B-4D58-8BB9-DFB3DE1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2FA6-E165-41ED-94B6-1D50D669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E42C-7D91-4114-B99B-F15ACD8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38B1D-A3EB-422A-80CB-F92B25B5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9A0-E2EF-448F-AA62-D5F74B0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EB7C-5383-4C96-A378-1A4D5AD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2A62-C5B5-474B-B4B4-62E453A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2D021-9189-4250-93EF-B2F6B62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5E55E-ED1A-4F86-BABD-3080A7D2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AAE94-0C3F-4820-BA5F-DDDC01B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4B32-8688-4757-A0A9-6A8F4DD6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54F84-BF56-4672-ABB8-918736D3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55626-E2A0-41E0-AF77-280B6897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B603D-A9DC-4268-9574-F2CD4D37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83826-CCC1-42C9-9620-B693846B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E85-F6D7-4DDE-988B-DE4997000A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E5DF-2F5A-4640-A09B-7A8D3153F4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8F6A-FC8F-4449-A985-5FCFF78738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5E5D-CC8D-431C-930F-69ECB48380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E5C7-52E7-4A40-B90E-9062C786A9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65C-54C2-42C3-82E5-828E1B412D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65D0-3608-4DC5-A91E-0D3EB512F1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D06-524D-4CAE-AB81-F59FA4AC53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A58F-BFCC-4E0D-84FF-6F04E448D5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AB1-909D-4B84-B918-FC35A10E68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0C4-3F66-46F3-8F1E-F532B2A406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130-BBA8-4AC1-B288-27E78F4FE5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5 Pán Ježiš, Priateľ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, Priateľ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ej krásy, blaha zdr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nebeský Ote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nám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ho vždycky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iluje ma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je srdca môjh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roda krásna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j Tvorca dar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skvostný ša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vetov nádher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krásu vnímať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vždy sa tešiť s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ých Božích divov úžas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sny je slnk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áčat spev keď blaží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sny aj hviezdnat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i sv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slnko jasnej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hviezdy stálejš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žiš Kristus môže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sny je jarný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sna mladosť, ktorej k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pálil, neznič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u m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 mladosť odv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ôvab sa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žiš je zdr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ch kr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50:06Z</dcterms:modified>
  <cp:revision>32</cp:revision>
  <dc:subject/>
  <dc:title>Je veľký náš Pán, on slávy je Kráľ Nech do všetkých strán  spev vrúcnych znie chvál.</dc:title>
</cp:coreProperties>
</file>